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68E-02C3-4329-A474-8BDD1132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980-9773-424A-9C2A-7B69FC08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F09-2F97-4398-890F-716AF66D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A26-BA9A-4E16-937D-36209763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D8C8-76CD-4F78-9BE7-A442835B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E14D-DD87-486F-8F4E-9DFC2368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594F-352F-471D-B144-D6D39C04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8D33-2BCB-4915-B3EC-63A9E842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787D-0FDE-4ADE-847C-1B7B590C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36EC-8D0B-4CE9-91ED-1AA66047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158D-4058-4C48-A097-BE74040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EC8-FDC4-4DA7-AFFA-C499F923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8E0A-8825-4253-ADAE-D81FC60F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9122-EEDA-4CCD-ABBE-5F2A66A2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EC5C-E88A-4D6F-8F34-F6028112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E8E2-3320-4F3F-B55E-B4FA456A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8E0C-A506-45BB-ACCB-47194188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E84-540E-4A31-B177-84B2FFA7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70B-BDD1-457F-AA1D-78CBDF3D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97B-EDF1-44CA-A6C1-5141D038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E67-C774-4AF1-AC0F-BA8C9917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7D4-CA01-44AD-BF55-B710F7E7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381-0FEC-43F6-97B8-35FC0AF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FD2-6523-4D9C-B755-EFF9C9D7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0B70-4EAE-45A5-8872-88F1DE6278E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3504-BBEC-49B5-90BE-F06BFA2963B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rategie EU pro rovnost žen a mužů 2010 – 2015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výšit počet žen na trhu práce, a pomoci tak při dosahování cílové míry zaměstnanosti stanovené ve strategii Evropa 2020 (tj. 75 % celkově pro muže i ženy), zvýšit počet žen na vysokých pozicích, podpořit podnikání žen, zavést rovnost v odměňování (ženy vydělávají v průměru o zhruba 18 % méně než jejich mužští kolegové), spolupracovat se všemi členskými státy při potírání násilí na že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ost dodržovat rovné příležitosti vyplývá pro Českou republiku z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řízení Rady (ES) č. 1083 / 2006 / čl. 16 / Rovné příležitosti žen a mužů a zákaz diskrimin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„Členské státy a Komise zajistí podporu rovnosti žen a mužů a začlenění hlediska rovnosti pohlaví během jednotlivých fází provádění pomoci z fondů. Členské státy a Komise přijmou vhodná opatření, aby v jednotlivých fázích provádění fondů, a zejména při přístupu k nim, nedocházelo k diskriminaci na základě pohlaví, rasy nebo etnického původu, náboženského vyznání nebo světového názoru, zdravotního postižení, věku nebo sexuální orientace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rojekty Evropského sociálního fond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y měly jít v tomto ohledu ostatním příkladem. Měly by prokázat, že dodržováním principů a zásad horizontálních témat nedochází pouze k plnění administrativních požadavků (spojených s využíváním finančních prostředků Evropského sociálního fondu), ale především k přínosnému a prospěšnému kroku pro všech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ŘO, aby v rámci horizontálního tématu rovné příležitosti nedocházelo pouze k formálnímu napl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lánované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měny při aplikaci horizontálního tématu rovné příležitosti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rámci OP LZZ v příštím programovacím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ilotní otestování plánovaných změn v rámci výzvy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á příloha výzvy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hodnocení rovnosti žen a mužů v projektových žádoste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 budoucnu by měla být přímo součástí projektové žád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nahradit tak stávající otázky na záložce Horizontální téma rovné příležitosti v aplikaci Benefit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ůrný dokument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okyny pro vyplnění přílohy Zhodnocení rovnosti žen </a:t>
            </a:r>
            <a:br>
              <a:rPr sz="1800"/>
            </a:b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 mužů v projektových žádostech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návod a pomůcka, jak správně zapracovat hledisko rovnosti žen a mužů do žádosti o finanční podporu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 budoucnu přispět k posílení horizontálního tématu rovné příležitosti v celém OP LZZ. Naleznete zde vysvětlení, co by měly obsahovat odpovědi na jednotlivé otázky Zhodnocení rovnosti žen a mužů v projektových žádos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2-03-19T11:32:39Z</dcterms:modified>
  <cp:revision>576</cp:revision>
  <dc:subject/>
  <dc:title>Snímek 1</dc:title>
</cp:coreProperties>
</file>